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17C-FCCA-4E03-981E-C81263F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CF5-2228-409D-B231-6AC4432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D12-D539-43AC-972E-31571334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DD2-B7EB-4DAE-9900-8F06C0C2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B3C-E561-482C-9138-E2FAD30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F1C-DFA7-4881-A736-0757E45C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904-2739-495D-B87D-4D7D1C33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BDE-9FE6-42C8-B0E0-830851E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C1D-E26E-48A5-A392-23CB87C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C0C-BDAF-46DD-BA90-384251B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6E1-EF5D-4A9E-9CFA-ACC01FB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D07-B7A9-4D34-910A-79CD8CF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054-49BB-4D8A-BDAE-365321296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1120" y="1147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Go to b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595960" y="354348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Put on clothes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798720" y="4440240"/>
            <a:ext cx="113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3728880" y="247176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Teach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35280" y="29448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Wi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491600" y="284472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Read t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(books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596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Wake up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20971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Be ni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944960" y="73332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Make the b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Buy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84640" y="49165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Sha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Ea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680520" y="32047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Ru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512400" y="37339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Play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40200" y="222048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Visi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5016960" y="19940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Lear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446360" y="4647960"/>
            <a:ext cx="64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Look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410600" y="2254320"/>
            <a:ext cx="12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Leav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Help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761080" y="40640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Writ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410600" y="14414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Was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them (dishes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4076640" y="391320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Ope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7349400" y="3678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Come her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7124400" y="444816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Tell me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494760" y="4681800"/>
            <a:ext cx="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Order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(pizza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-92160" y="5614920"/>
            <a:ext cx="3756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3-10-16T12:26:22Z</dcterms:modified>
  <cp:revision>23</cp:revision>
  <dc:subject/>
  <dc:title>PowerPoint Presentation</dc:title>
</cp:coreProperties>
</file>